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3642-15E0-4EF4-864C-B6B479AA2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BE00-66F4-4799-AE00-A66D9B2C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887C-9999-4146-A75B-093FC764B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2C6B-A063-40F8-978A-8FB691144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7BA8-45FC-4BE5-A4D0-616E31A97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4FA8-9AA9-4F66-A2D8-1DED6913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A802-B8CD-4197-8D10-C06AC169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C979-4742-4ADA-8DC8-6F2760C7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8269-179B-495B-9F0E-728B656C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EBA1-FDE4-473C-B741-B371798C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BDF4-099E-44CA-957F-5C20FB53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B1E1-DBEA-441A-B8B3-6E398276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3758-28B0-4A67-875C-B58B6D73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67C22-4F8D-4D93-917B-5A7CEB5B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6B202-BF39-462C-8E1F-AFBB9FBF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2D82-87A2-40E4-8399-327A72377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C3C55-FF36-4D09-81D7-C9AF2C0DF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702F-85E0-4B12-A8A8-F8AD6B64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C6B9-2DA9-41F6-B317-96B47672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0F0F-78ED-4F4D-8C06-9D9A8EFB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C9BA-ECDF-4E58-B380-C706D400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945B-0E8C-462E-9773-48DA2106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D2DE-168E-42DB-BF11-AFFA13BA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6B3A-5029-4FB1-91CE-D234E06C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48F0-BCCF-45A8-B03A-AB95C0843C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3CB5-3F28-42C2-88AF-56F4337EB03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0" y="3960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The Industrial Revolu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160020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750 - 185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5181480"/>
            <a:ext cx="8540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e Power Loo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y Edmund Cartwright (1787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3915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ffffcc"/>
                </a:solidFill>
                <a:uFillTx/>
                <a:latin typeface="Tahoma"/>
              </a:rPr>
              <a:t>The Factory System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219320"/>
            <a:ext cx="854064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viously, th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ottage indust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ould not keep up with supply and dema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new machines were often too big to be put into homes so they were put into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ctori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ctories were located near a power source (coal, water, or forest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ces of mass produced textiles become less expensive to make and purchase than hand produced ones, thus forcing people out of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a result, because of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upply and dema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orkers in the cottage industry had to leave home to find work in the factor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Tahoma"/>
              </a:rPr>
              <a:t>Iron Productio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51920" y="76212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ron was the second industry to become mechaniz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 the steam engine, etc, cheap &amp; plentiful iron provided the tough industrial material needed f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gricultural imple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ilding materi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litary hardwa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ustrial machine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itain soon became the world’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ding producer of ir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am power use increased with iron prod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d to the formation of th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railways which were a symbol of the industrial ag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/c they tied coal, iron &amp; steam togeth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6095880" y="2209680"/>
            <a:ext cx="281952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0752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Tahoma"/>
              </a:rPr>
              <a:t>Results of Improved Transportation System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Development of roads &amp; canal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Reduced costs of moving raw materials which reduced costs of finished material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Railways cheap &amp; fast transportation of good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uge amount of workers required to build &amp; maintain railroad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Export industry – British goods were exported all over the worl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Britain became most industrialized country in the worl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ver ½ the population lived in citi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-23796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28600" y="-360"/>
            <a:ext cx="876312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Key Term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51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ndustry – any business, usually manufacturing, that creates products for sal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51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Revolution – a sudden &amp; rapid change in societ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51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atent – a legal right to be the only one allowed to make a product.  Protects the inventors ideas from being stole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51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apital – money required to start a business.  It may be borrowed as a loan from banks or from individual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51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actory System – a large scale method of manufacturing, using machines &amp; workers in one large buildin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-23796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a3c145"/>
              </a:buClr>
              <a:buSzPct val="8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ass Production – making large quantities of an item which reduces the cost of each unit &amp; increases profi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a3c145"/>
              </a:buClr>
              <a:buSzPct val="8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ssembly line – stages in production where the products passes from one worker to the next to perform a specific job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a3c145"/>
              </a:buClr>
              <a:buSzPct val="8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ttage industry – small scale manufacturing done in the home or cottage of a single craftsperson (ex:  Weaver making cloth at home on a loom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Tahoma"/>
              </a:rPr>
              <a:t>Reasons the Ind. Rev. Began in Britain</a:t>
            </a:r>
            <a:br>
              <a:rPr sz="3200"/>
            </a:b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“The Workshop of the World”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Natural resources (coal &amp; iron, rivers, natural harbours, temperate climate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edical advances gave higher birth rates, lower death rates which provided a growing population (more people filled jobs, larger domestic market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rivate entrepreneurs provided capital for industrializa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mprovements in agriculture to feed the growing popula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oreign trade provided  access to the colonies markets which provided raw material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Britain was free from invasion &amp; domestic unrest which allowed them to pursue its industrial course without interrup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Tahoma"/>
              </a:rPr>
              <a:t>The Cottage Industry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838080"/>
            <a:ext cx="47275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avers bought supplies from merchants &amp; spun them into textil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y sold their products for more than the cost of the supplies to make a profit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oon, production could not meet demand &amp; new inventions and the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factory system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replaced the cottage industr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opulation move from country to city (cottages/farms to factories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3809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Inventions of the Ind. Rev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422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lying Shuttl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John Kay (173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lped increase speed when weaving clo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6124680" y="990720"/>
            <a:ext cx="3019320" cy="350496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1752480" y="3803760"/>
            <a:ext cx="434340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-4752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380880"/>
            <a:ext cx="5108400" cy="57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pinning Jenn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y James Hargreaves (177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5029200" y="685800"/>
            <a:ext cx="3809880" cy="309564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33520" y="3352680"/>
            <a:ext cx="428616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-23796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320" y="533160"/>
            <a:ext cx="4422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e Water Fram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y Sir Richard Arkwright (1769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rnessed water power to produce textile materi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gnaled the need to move to specialized mills near water sour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ion of facto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5181480" y="914400"/>
            <a:ext cx="377208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-23796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0"/>
            <a:ext cx="5108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ffff"/>
                </a:solidFill>
                <a:uFillTx/>
                <a:latin typeface="Tahoma"/>
              </a:rPr>
              <a:t>The Steam Engine</a:t>
            </a: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 by James Watt (1769)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This was the single most important invention of the early Ind. Rev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Provided power that would run everything from textile factories &amp; steel mills to locomotives &amp; huge ships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Improved transportation &amp; communication b/c destinations could be reached much more quickly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Provide continuous supply of power &amp; could be located near raw materials &amp; transportation centers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5813280" y="685800"/>
            <a:ext cx="333072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16:49:15Z</dcterms:created>
  <dc:creator>nbdoe</dc:creator>
  <dc:description/>
  <dc:language>en-US</dc:language>
  <cp:lastModifiedBy>nbdoe</cp:lastModifiedBy>
  <dcterms:modified xsi:type="dcterms:W3CDTF">2008-04-09T16:55:37Z</dcterms:modified>
  <cp:revision>10</cp:revision>
  <dc:subject/>
  <dc:title>The Industrial Revolution</dc:title>
</cp:coreProperties>
</file>